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DAC-8260-4EBC-B675-D4C4A307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457-569E-404E-9F52-0469E95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008-3545-4261-940C-3CDA6BFB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DF1-D280-47CA-B526-7C74FDF2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41E5-1144-47CF-92DD-C82BFB0D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09DA-EFFB-4392-8429-380C7180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F10-1306-43D5-8913-60ABB3B7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6100-9859-4049-8EC6-5096EB44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9CA-668E-4E31-83D7-EA0AC685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5D0E-1241-4BC2-838E-BDCDC41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A99E-43C6-491A-9918-82AC5B5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67E-83A9-49A0-B3D3-1240957F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875F-0E3D-440D-85A8-72FA324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A2AA-C037-4F27-9C2B-3854E73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D9E-E13A-4CE4-AF20-830CE4F9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BD3-72BF-4511-8099-F0A3C4A1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766F-59B6-4595-8FEA-B4B7B0DD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F79-8AE0-4EE8-B338-FC0094F8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03C-F680-46AE-92C0-BE4744B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19A-FE59-4678-BB76-1E02635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C3B-2BAE-4B7A-A3A6-AE1FC5E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3AA-792B-4ABC-808F-E210D35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A0F-E6DD-42B6-A3FD-2435FF72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1B5-11E2-478B-9F29-868AA85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9356-FED8-4B65-9B86-81BBAFE1B4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B8E-B48A-4723-9E58-ABC50A0F3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name the jelly-like material in a cell. Called it sar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de was later renamed protopla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3048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timeline of the people involved in the discovery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ame of the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year of their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hat their discovery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Theresa DeLaurentis</cp:lastModifiedBy>
  <dcterms:modified xsi:type="dcterms:W3CDTF">2007-03-04T05:40:08Z</dcterms:modified>
  <cp:revision>14</cp:revision>
  <dc:subject/>
  <dc:title>Are All Cells Alike?</dc:title>
</cp:coreProperties>
</file>